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C2F9-485E-4A2F-BB3E-385EE82BF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16A6-89E8-4663-836D-14E48B74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D874-21C4-45A9-B4F0-56577E718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C7B4-D475-4AA8-A402-9B29FC74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27B6-8EC3-410A-A84E-671922D3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0974-3D21-4AFE-A1A2-5B66CA1B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9FDB-D08E-4936-A0A6-5DCE25DC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8466-3B36-42C7-8948-BF77F4C1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035C-C2F2-4D8C-88E4-1CC48A2B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9B7D-4A0A-4352-BD89-339B1695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44D8-9732-4CB1-89C8-600BBA86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4FE6-E64E-4EAC-A4D9-884EB1D6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874F-1799-42B6-BB30-6E5555404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ander Sp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Pri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than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large margin of profit for distribu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d loy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Inven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n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523880" y="2209680"/>
          <a:ext cx="6096240" cy="37782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f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% growth in prof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er than compe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ventory turno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 faster than compe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% of inventory costs sa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ject Te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09480" y="1676520"/>
          <a:ext cx="82296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8229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ansion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2128680"/>
            <a:ext cx="2971800" cy="538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838080" y="3047400"/>
            <a:ext cx="243864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2971800"/>
            <a:ext cx="2514600" cy="60948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819520" y="26668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266688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752120" y="3581280"/>
            <a:ext cx="22860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485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924680" y="3581280"/>
            <a:ext cx="381240" cy="2057400"/>
          </a:xfrm>
          <a:prstGeom prst="downArrow">
            <a:avLst>
              <a:gd name="adj1" fmla="val 50000"/>
              <a:gd name="adj2" fmla="val 13491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lander Sp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56120" y="30132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3013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05520" y="4952880"/>
            <a:ext cx="2361960" cy="8384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5638680"/>
            <a:ext cx="198108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4648320"/>
            <a:ext cx="236232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4038480"/>
            <a:ext cx="2361960" cy="9144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472284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Kiosks in 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0440" y="419112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osks in 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49528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osks in Mid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0" y="58672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23:23:38Z</dcterms:created>
  <dc:creator>Nilanjana</dc:creator>
  <dc:description/>
  <dc:language>en-US</dc:language>
  <cp:lastModifiedBy>V &amp; M Goldenberg</cp:lastModifiedBy>
  <dcterms:modified xsi:type="dcterms:W3CDTF">2000-01-09T17:51:23Z</dcterms:modified>
  <cp:revision>18</cp:revision>
  <dc:subject/>
  <dc:title>OUTLANDER SPICES</dc:title>
</cp:coreProperties>
</file>