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84A4-09B2-43DF-93AC-234064F8D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the audience to introduce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your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handouts to the aud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132-1F0E-4F79-A1AC-7FD83E0A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1E8-ED3B-4048-8F74-CDD10D14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474A-C44D-48B0-AA0F-2BC5828A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424A-F848-4313-BDD1-DFCD7FD3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3768-46FB-4067-9A39-BB0DDEF5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41A9-9634-4DAC-8A98-A58D8B03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D98C-FC92-4039-9F5C-A93D8512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038E-0E6A-4FBD-9202-ECF090AB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8FDA-AAA5-4F8C-8988-A5B98B61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173D-E1AF-4F91-8313-56A140B0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B71B-E644-4BE8-97D4-4BBA226F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423-2BBC-4A2C-803B-81A8AE0A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0748-B0FB-4620-9250-921045ED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418B-A564-4FB1-ACF8-1BAF3734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CC8F-946C-417A-82C6-B72DD36D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DC99-6DAE-479B-B3A6-07E15073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CA45-03FB-4520-B897-D8BCB9A0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EA6-1B9D-42FE-867B-5466F5C6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259-18D7-42FF-8DAA-6B51861C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2CE-CDD0-4788-857F-21FC555E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AC5-8D8C-4C82-A7B3-4E2DFCB1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13B-CB04-4D2F-993D-C44B6EF2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85D-B740-4363-90F0-9151AEDE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DC9-8835-410B-A255-D1E8EE6E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9849-6DAD-4703-9C29-A932EDD34E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58AB-197C-426C-A358-48E8D636C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ing the Web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d by: Elise Sech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1752480"/>
          <a:ext cx="6095880" cy="406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ssion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ssion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yment &amp; Deliv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stomer Serv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rket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ine order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ners at existing out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yment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dit c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li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er &amp; payment ver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ier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 wareho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stomer Serv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on new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ly asked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i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er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ized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information on the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from other cust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spec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b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03:41:08Z</dcterms:created>
  <dc:creator>AnitaSastry</dc:creator>
  <dc:description/>
  <dc:language>en-US</dc:language>
  <cp:lastModifiedBy>V &amp; M Goldenberg</cp:lastModifiedBy>
  <dcterms:modified xsi:type="dcterms:W3CDTF">2000-01-09T18:23:10Z</dcterms:modified>
  <cp:revision>9</cp:revision>
  <dc:subject/>
  <dc:title>Training</dc:title>
</cp:coreProperties>
</file>