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DBC-B867-4690-8C03-B70DC79B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051-74C7-42A0-A49F-89DDE2B9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A4B-BCEF-4EA7-8899-275425EE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B6E-6500-440A-8D3C-ACBAF078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120-4E01-4DB3-AECA-51FF105E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40C-D38E-4D9E-80D3-92C4FEE7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844B-4135-4556-9B97-E2123658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515-93EB-4A00-B921-3C92CD1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62E-EB7A-46FC-8812-9CD59C18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68D6-3E03-489C-A01B-3BC1BE6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DF2-B289-4316-8636-D100D99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FF5-057D-4C63-8AC9-47D05DC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7E8-43AE-46D8-9EDE-B40D0BD7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tland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Jus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6518_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3809880" cy="294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eena Srinivas Balram</cp:lastModifiedBy>
  <dcterms:modified xsi:type="dcterms:W3CDTF">1999-12-29T10:55:15Z</dcterms:modified>
  <cp:revision>17</cp:revision>
  <dc:subject/>
  <dc:title>OUTLANDER SPICES</dc:title>
</cp:coreProperties>
</file>