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BB8A-D747-4B16-BE77-75D324329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file will guide you through the company’s strategy, performance,and  expansion plans. You will also get a brief introduction to the team members who have made Outlander Spices such a recognized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ander Spices bases its market strategy on the points mentioned above. It is because of these efforts that the company has captured such a large market sh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ander Spices’ performance brings in more investors and distributors. The company hopes that all of those who are attending this presentation will become investors in near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rt shows the company’s performance in terms of numeric data. You also can see that Outlander Spices outperforms its competitors in all of these asp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ander Spices is planning for expansion. On the left, you can see the present number of kiosks; on the right, you can see the areas into which we’re planning to expand our kios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formation provided here is for employees only. It need not be shared with prospective inves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lide shows the names of members of the project team and provides information about the team’s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DD3-8AA3-4A76-BC60-5C46E3CA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3AC0-70D6-4196-B352-99518276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AA31-26D8-4622-9D67-8CA1BB44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115-10BF-4B66-A946-725E71A0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4C22-953A-457E-A2FE-AFFCD337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03FB-A081-435D-A6E4-9C8C48B4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39AD-8D96-4491-83CF-41A58E78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38F7-3BCC-4EAE-A73D-C6452BE6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8768-156D-44EF-89CF-72D181CE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CF75-4F4A-4BD7-92D5-4F782D5D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843E-FD0A-4570-BAB4-5D633F4B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4307-E6D6-4960-89F4-C7295AB8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1C6F-AF3C-44FF-872E-515DE306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B1B2-ADB2-4978-AAFD-E9DCD35F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658B-F15E-4E65-B61C-85CD3E5E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78F1-E794-45FE-8332-D10CE59F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CAB2-4FB5-44EE-8F08-3FB9A886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ACB-30DE-4FB6-8A56-73EE7959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50BA-B708-41CB-A2B1-30442C4D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104-8BE8-43F7-9C0C-028E52EE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41B-8283-40A0-A551-152FA81A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FD0-BE28-429F-B1B0-2D7BD672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28B3-1178-4415-8641-138BD222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5FB-B55D-4BC6-8386-5C1A1711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9722-2F98-4DDD-875A-FBD140562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F057-68E6-496F-A967-CFC094C70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669960"/>
            <a:ext cx="6248160" cy="19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 Black"/>
              </a:rPr>
              <a:t>Outlander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1" lang="en-US" sz="6000" spc="-1" strike="noStrike">
                <a:solidFill>
                  <a:srgbClr val="003300"/>
                </a:solidFill>
                <a:latin typeface="Arial Black"/>
              </a:rPr>
              <a:t>Spices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roject Justific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inventory costs and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quality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products competi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cash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than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rge margin of profit for distribu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 loy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3880" y="2209680"/>
          <a:ext cx="6096240" cy="3778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% growth in prof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ory turn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fast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 of inventory costs sa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xpansion Projec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2128680"/>
            <a:ext cx="2971800" cy="5382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838080" y="3047400"/>
            <a:ext cx="243864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2971800"/>
            <a:ext cx="251460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819520" y="26668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26668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572000"/>
            <a:ext cx="18288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419720"/>
            <a:ext cx="1676520" cy="8380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638680"/>
            <a:ext cx="1524240" cy="9144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5638680"/>
            <a:ext cx="182880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752120" y="3581280"/>
            <a:ext cx="2286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3581280"/>
            <a:ext cx="457200" cy="2057400"/>
          </a:xfrm>
          <a:prstGeom prst="downArrow">
            <a:avLst>
              <a:gd name="adj1" fmla="val 50000"/>
              <a:gd name="adj2" fmla="val 1125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56120" y="3013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01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4572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kio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44197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5867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5638680"/>
            <a:ext cx="186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Mid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73040" y="1981080"/>
            <a:ext cx="369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y on Fri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weeks va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 of the profits to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lunch every Wedn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parking for one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bd06518_" descr=""/>
          <p:cNvPicPr/>
          <p:nvPr/>
        </p:nvPicPr>
        <p:blipFill>
          <a:blip r:embed="rId1"/>
          <a:stretch/>
        </p:blipFill>
        <p:spPr>
          <a:xfrm>
            <a:off x="228600" y="2565360"/>
            <a:ext cx="3699000" cy="2946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752480" y="533520"/>
            <a:ext cx="5410440" cy="102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elebra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he Project Tea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2341440"/>
          <a:ext cx="8229600" cy="30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41440"/>
                    <a:ext cx="8229600" cy="30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23:23:38Z</dcterms:created>
  <dc:creator>Nilanjana</dc:creator>
  <dc:description/>
  <dc:language>en-US</dc:language>
  <cp:lastModifiedBy>Bryn Cope</cp:lastModifiedBy>
  <dcterms:modified xsi:type="dcterms:W3CDTF">2000-08-31T15:27:51Z</dcterms:modified>
  <cp:revision>24</cp:revision>
  <dc:subject/>
  <dc:title>OUTLANDER SPICES</dc:title>
</cp:coreProperties>
</file>