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93D-62C2-4128-8F34-4F420465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E8C6-FA27-4EF9-8B4D-735F15C5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9538-CFED-4D82-8EC4-1B5FB890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4156-CF7C-4D9E-A380-B1A79A40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DE5-4FA2-405D-A754-0825A68F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4CD-4DF6-449B-AEA4-DD43D89C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696-BA62-41AE-B028-1AB1530B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82C4-416B-4247-94E6-7F0E1B9A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BE5-BA01-4316-AF4C-AECD9C61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C72-14F6-45D4-9772-BF3E7F3A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8BA-C6EA-4B55-B6DF-8DE7FF6E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4AA-FC83-446A-876C-446708E5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AE9B-E1CD-4ECD-9776-B8A65B137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than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large margin of profit for distribu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 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3880" y="2209680"/>
          <a:ext cx="6096240" cy="3778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% growth in prof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ntory turn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fast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 of inventory costs sa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ject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09480" y="1676520"/>
          <a:ext cx="822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22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ansion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2128680"/>
            <a:ext cx="2971800" cy="538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38080" y="3047400"/>
            <a:ext cx="243864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2971800"/>
            <a:ext cx="251460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819520" y="26668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26668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752120" y="3581280"/>
            <a:ext cx="2286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3581280"/>
            <a:ext cx="381240" cy="2057400"/>
          </a:xfrm>
          <a:prstGeom prst="downArrow">
            <a:avLst>
              <a:gd name="adj1" fmla="val 50000"/>
              <a:gd name="adj2" fmla="val 13491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56120" y="3013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301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4952880"/>
            <a:ext cx="2361960" cy="8384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5638680"/>
            <a:ext cx="198108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648320"/>
            <a:ext cx="236232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38480"/>
            <a:ext cx="2361960" cy="9144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472284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Kiosks in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440" y="419112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4952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Mid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0" y="5867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23:23:38Z</dcterms:created>
  <dc:creator>Nilanjana</dc:creator>
  <dc:description/>
  <dc:language>en-US</dc:language>
  <cp:lastModifiedBy>V &amp; M Goldenberg</cp:lastModifiedBy>
  <dcterms:modified xsi:type="dcterms:W3CDTF">2000-01-09T17:51:23Z</dcterms:modified>
  <cp:revision>18</cp:revision>
  <dc:subject/>
  <dc:title>OUTLANDER SPICES</dc:title>
</cp:coreProperties>
</file>