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BEA-67B4-4E81-92D0-FF81A8E6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C26-1F97-40AE-8EEE-51754940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934-DCCA-4E71-97EC-D5A13EAF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471-C00C-45D9-80C8-6EA44679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CDF-7407-4488-8346-699A42E9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8B4-97BD-4237-B5A2-1B2C7A4F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098-826B-4838-A84B-0770B221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792-CA92-4CBC-829B-A487A1E4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89A-5C66-4975-9A38-F1B3DD84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33B-005F-4D3F-BCE3-EB157045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463-63F5-4841-8E06-DA60FAF1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472-8034-4233-A0BB-331AEA3D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7CE8-2D14-486C-91FE-E0D3AEEDE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Outlande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pi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Jus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inventory costs and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quality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products competi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cash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than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large margin of profit for distribu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ansion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128680"/>
            <a:ext cx="2971800" cy="53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838080" y="3047400"/>
            <a:ext cx="2438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971800"/>
            <a:ext cx="2514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819520" y="26668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666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572000"/>
            <a:ext cx="18288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419720"/>
            <a:ext cx="1676520" cy="8380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5638680"/>
            <a:ext cx="1524240" cy="9144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638680"/>
            <a:ext cx="182880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35812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358128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209680"/>
            <a:ext cx="2514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6120" y="3013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301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572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kiosks in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4419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W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5867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5638680"/>
            <a:ext cx="18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Mid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y on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eeks va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% of the profits to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lunch every Wednes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parking for one mon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d06518_" descr=""/>
          <p:cNvPicPr/>
          <p:nvPr/>
        </p:nvPicPr>
        <p:blipFill>
          <a:blip r:embed="rId1"/>
          <a:stretch/>
        </p:blipFill>
        <p:spPr>
          <a:xfrm>
            <a:off x="685800" y="2565360"/>
            <a:ext cx="3809880" cy="294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752480" y="533520"/>
            <a:ext cx="5410440" cy="102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elebr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3880" y="2209680"/>
          <a:ext cx="6096240" cy="3778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% growth in pro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ntory turn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fast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 of inventory costs sa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1676520"/>
          <a:ext cx="822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23:38Z</dcterms:created>
  <dc:creator>Nilanjana</dc:creator>
  <dc:description/>
  <dc:language>en-US</dc:language>
  <cp:lastModifiedBy>Veena Srinivas Balram</cp:lastModifiedBy>
  <dcterms:modified xsi:type="dcterms:W3CDTF">1999-12-29T10:55:15Z</dcterms:modified>
  <cp:revision>17</cp:revision>
  <dc:subject/>
  <dc:title>OUTLANDER SPICES</dc:title>
</cp:coreProperties>
</file>