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35F1-2034-423B-BE7D-EE3BEC34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file will guide you through the company’s strategy, performance,and  expansion plans. You will also get a brief introduction to the team members who have made Outlander Spices such a recognized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 bases its market strategy on the points mentioned above. It is because of these efforts that the company has captured such a large market sh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’ performance brings in more investors and distributors. The company hopes that all of those who are attending this presentation will become investors in near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rt shows the company’s performance in terms of numeric data. You also can see that Outlander Spices outperforms its competitors in all of these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ander Spices is planning for expansion. On the left, you can see the present number of kiosks; on the right, you can see the areas into which we’re planning to expand our kios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formation provided here is for employees only. It need not be shared with prospective inves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shows the names of members of the project team and provides information about the team’s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598-0217-411D-B7EE-5F4D8305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E3B-D284-4DEC-8CF4-E09272C5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DB7-07DF-4ADA-9509-3C5625B1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DBD-E903-485E-9F46-CFA605FF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92A0-C704-43B5-A5FE-BAF9D1A4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C6A1-1BE5-45E6-B5DC-5D14F590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50D5-B347-4A63-A2BF-F8E389E7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9209-EE1C-426C-A565-11EFA3A5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4826-D770-4EB9-B4B5-95E8A05F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D35D-B349-424D-8E45-5C64949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0BB2-43A5-4770-860E-8F011D7B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1E1-D094-42C1-BE05-31F8DB01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5B45-D030-4FB4-91FE-AEED3DD6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49D0-7323-43B3-A8BD-17814CF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6F0E-D340-4D7E-A3A9-37F78AA6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9141-1641-48BF-AC7D-6FF9D4A8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0FF9-52B6-4B87-B3FB-1C9D61E4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699-7443-474D-BF98-6B8927F3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508D-D52E-4DCC-8919-F36D9AC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994-0B3E-4E97-ABAA-A0D8C6E2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E96-B27B-4091-B23D-A7CC3604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6B8D-23C4-44A9-86CA-7E20DB28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F6E-215A-4DBD-943D-50E8D8BB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DC1-7E4D-4FD7-8A93-3CD9A858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E961-29E6-4E30-B66C-2173DEBBF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B0F3-3F6E-48B2-8A50-34F5E0A74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69960"/>
            <a:ext cx="6248160" cy="19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Outlander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Spices</a:t>
            </a:r>
            <a:endParaRPr b="0" lang="en-US" sz="60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roject Justific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inventory costs and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quality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 products competi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cash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han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rge margin of profit for distribu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 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2209680"/>
          <a:ext cx="6096240" cy="3778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% growth in prof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y turn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faster than compe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 of inventory costs sav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Expansion Projec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128680"/>
            <a:ext cx="2971800" cy="538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38080" y="3047400"/>
            <a:ext cx="243864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2971800"/>
            <a:ext cx="251460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819520" y="26668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26668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572000"/>
            <a:ext cx="182880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419720"/>
            <a:ext cx="1676520" cy="838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638680"/>
            <a:ext cx="1524240" cy="9144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5638680"/>
            <a:ext cx="182880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752120" y="3581280"/>
            <a:ext cx="2286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581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58128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ander Sp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56120" y="30132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013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572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kio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419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5638680"/>
            <a:ext cx="186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 in Mid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73040" y="1981080"/>
            <a:ext cx="369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y on Fri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eeks va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of the profits to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lunch every 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parking for one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bd06518_" descr=""/>
          <p:cNvPicPr/>
          <p:nvPr/>
        </p:nvPicPr>
        <p:blipFill>
          <a:blip r:embed="rId1"/>
          <a:stretch/>
        </p:blipFill>
        <p:spPr>
          <a:xfrm>
            <a:off x="228600" y="2565360"/>
            <a:ext cx="3699000" cy="294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52480" y="533520"/>
            <a:ext cx="5410440" cy="102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eleb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The Project Tea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2341440"/>
          <a:ext cx="8229600" cy="30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41440"/>
                    <a:ext cx="8229600" cy="30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23:38Z</dcterms:created>
  <dc:creator>Nilanjana</dc:creator>
  <dc:description/>
  <dc:language>en-US</dc:language>
  <cp:lastModifiedBy>Bryn Cope</cp:lastModifiedBy>
  <dcterms:modified xsi:type="dcterms:W3CDTF">2000-08-31T15:27:51Z</dcterms:modified>
  <cp:revision>24</cp:revision>
  <dc:subject/>
  <dc:title>OUTLANDER SPICES</dc:title>
</cp:coreProperties>
</file>