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4AB6-B5A6-4546-B2F8-AA3064606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the audience to introduce themse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your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andouts to the aud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103-D8B3-45BC-AF56-13106DA7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97FE-4810-4980-9E38-1D5E4305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223-B359-40B0-A8E5-E679BDF9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9BF-20A7-4973-849C-BE7099DC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077C-9064-4D69-872C-61BCB6EC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A61D-19CD-465C-9360-25860E91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0E97-8887-4859-978D-0DAB1F26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5D64-2898-40E4-BF95-1BBE76DE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C2EA-6787-46E8-B2E3-F28975B1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FB2F-0250-402F-8627-60496123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B34A-7C49-4CD2-BBC7-96D0AD8B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4CD-4AE0-4EA7-A05D-E89AE681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8CE6-F844-4ECA-836B-76A88E54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98FA-0A37-44FA-AC34-422DEAE9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3FE5-3AF7-4BEC-B8AC-3BDA88C7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DBD1-0954-4255-B855-DD39D998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0EB9-67C1-4ED8-B335-BFBDD4CD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643-95E4-4564-A99A-21A644F1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426-F419-427A-A610-AF8B810D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5C5-86A7-4142-92A7-346FFB9C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9A7-4C8E-4533-BEBF-1C969B7E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76C-655F-4AFE-A044-86E2F77D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75D-DF4B-4696-B29C-D2333EE0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35A-42AC-4D81-8A83-789318D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5A49-53D2-480A-B9A2-CA0EE148D0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29F8-B37A-41F4-BC21-25842160D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ing the Web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d by: Elise Sech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1752480"/>
          <a:ext cx="6095880" cy="406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ssion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ssion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yment &amp; Delive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ustomer Servi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rket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ine order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rti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nners at existing out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ymen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dit c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liv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er &amp; payment ver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ier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al wareho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stomer Serv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on new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tly asked ques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i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er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vantag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ized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information on the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from other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spec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b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03:41:08Z</dcterms:created>
  <dc:creator>AnitaSastry</dc:creator>
  <dc:description/>
  <dc:language>en-US</dc:language>
  <cp:lastModifiedBy>V &amp; M Goldenberg</cp:lastModifiedBy>
  <dcterms:modified xsi:type="dcterms:W3CDTF">2000-01-09T18:23:10Z</dcterms:modified>
  <cp:revision>9</cp:revision>
  <dc:subject/>
  <dc:title>Training</dc:title>
</cp:coreProperties>
</file>